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362F-A153-4BDF-92DF-38464D5B5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1B9F-754E-4E38-9373-0994F23F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E869-7B3A-44CD-8CA2-7EEFA157A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28FA-3817-4C51-9367-D01069FEE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EB65-04F6-4F09-9B16-7454A035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204E-3FC0-43DD-92EF-2A0F8A75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45D8-B4D2-4C6D-82ED-98390C86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8A74-173E-466F-9537-538E200D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94D7-06D2-4BC7-8410-2773F876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1370-540E-4BE7-8EC8-9F2D5037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5088-679C-442B-954D-68295BEA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3FE4-8DBD-472B-9093-101D5440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9A6700-53B4-4560-931C-AAFE1436EF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143904-E123-4F79-B52A-ED8395AA40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iflscience.com/plants-and-animals/watch-mongoose-fend-four-lions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s://www.youtube.com/watch?v=BPJJM_hCFj0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s://www.youtube.com/watch?v=al-do-HGuIk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225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Welcome </a:t>
            </a:r>
            <a:r>
              <a:rPr b="1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Bienvenidos </a:t>
            </a:r>
            <a:r>
              <a:rPr b="1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14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992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) Using pictures and/or words, please describe the </a:t>
            </a:r>
            <a:r>
              <a:rPr b="1" i="1" lang="en-US" sz="2700" spc="-1" strike="noStrike">
                <a:solidFill>
                  <a:srgbClr val="000000"/>
                </a:solidFill>
                <a:latin typeface="Calibri"/>
              </a:rPr>
              <a:t>Greenhouse Effec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2) How is the Greenhouse Effect helpful to life on Earth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3) How could the Greenhouse Effect be harmful to life on Earth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3903840" y="0"/>
            <a:ext cx="5240160" cy="40258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3903840" y="4025880"/>
            <a:ext cx="5240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 Usando  imágenes y / o palabras, por favor, describa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el efecto invernader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¿Cómo es útil para la vida en la Tierra el efecto invernadero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 ¿Cómo puede el efecto invernadero nocivo para la vida en la Tierr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da Bottle Terrarium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09520" y="1600200"/>
            <a:ext cx="893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Let’s Defin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. Water Cycl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ntinuous movement of water on, above and below the surface of the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. Greenhouse Effec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The Earth’s atmosphere traps UV rays from the sun keeping the Earth wa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does the bottle represe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What does inside the bottle represe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1845720" y="6151680"/>
            <a:ext cx="495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https://www.youtube.com/watch?v=oaDkph9yQB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da Bottle Terrarium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09520" y="1417680"/>
            <a:ext cx="893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Let’s Defin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. Water Cycl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ntinuous movement of water on, above and below the surface of the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. Greenhouse Effec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The Earth’s atmosphere traps UV rays from the sun keeping the Earth wa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does the bottle represent? </a:t>
            </a:r>
            <a:r>
              <a:rPr b="1" lang="en-US" sz="3200" spc="-1" strike="noStrike">
                <a:solidFill>
                  <a:srgbClr val="3366ff"/>
                </a:solidFill>
                <a:latin typeface="Calibri"/>
              </a:rPr>
              <a:t>The Atmosphere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What does inside the bottle represent?  </a:t>
            </a:r>
            <a:r>
              <a:rPr b="1" lang="en-US" sz="3200" spc="-1" strike="noStrike">
                <a:solidFill>
                  <a:srgbClr val="3366ff"/>
                </a:solidFill>
                <a:latin typeface="Calibri"/>
              </a:rPr>
              <a:t>The Earth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1845720" y="6151680"/>
            <a:ext cx="495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https://www.youtube.com/watch?v=oaDkph9yQB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37600" y="1417680"/>
            <a:ext cx="890604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t up Groups of 2-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epare bottle (Cut and clits cu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ctivated Carbon, Soi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pray soil to moisten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5. Plants or see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 gentle in planting! Plant seeds ½ inch dee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pray soil &amp; plants aga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ver 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8.  CLEAN UP – All materials back where they belong!  Wipe down any spil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wesome Science of the 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iflscience.com/plants-and-animals/watch-mongoose-fend-four-l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39760" y="1600200"/>
            <a:ext cx="866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 ca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xplain the explain the Greenhouse Eff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 ca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the steps of the water cyc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 ca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how the atmosphere keeps the earth warm and keeps the water cycling throu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t’s Review the Greenhouse Effect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s://www.youtube.com/watch?v=BPJJM_hCFj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Talk about the water cycl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 we already know about the water cyc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por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pir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ens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cipit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noff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ndwa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e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4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Water cycle is driven by….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Sun’s Energy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247680" y="2374920"/>
            <a:ext cx="3886200" cy="3701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4867200" y="2597040"/>
            <a:ext cx="40816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ter Cycle Guided No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use, discuss, take n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s://www.youtube.com/watch?v=al-do-HGuI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ter Cycle Diagram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ip over your pa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 minut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 over toge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0" y="274680"/>
            <a:ext cx="8848800" cy="63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89280" y="274320"/>
            <a:ext cx="409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da Bottle Terrariums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1845720" y="6335640"/>
            <a:ext cx="495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https://www.youtube.com/watch?v=oaDkph9yQB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271440" y="274680"/>
            <a:ext cx="3809880" cy="3505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3"/>
          <a:stretch/>
        </p:blipFill>
        <p:spPr>
          <a:xfrm>
            <a:off x="3481560" y="1859040"/>
            <a:ext cx="5662440" cy="42465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7"/>
          <p:cNvSpPr/>
          <p:nvPr/>
        </p:nvSpPr>
        <p:spPr>
          <a:xfrm>
            <a:off x="271440" y="4068720"/>
            <a:ext cx="300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mall closed container in which plants live and water continuously cyc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5T12:12:02Z</dcterms:created>
  <dc:creator>Illana Livstrom</dc:creator>
  <dc:description/>
  <dc:language>en-US</dc:language>
  <cp:lastModifiedBy>Illana Livstrom</cp:lastModifiedBy>
  <dcterms:modified xsi:type="dcterms:W3CDTF">2014-10-15T21:05:11Z</dcterms:modified>
  <cp:revision>22</cp:revision>
  <dc:subject/>
  <dc:title>Slide 1</dc:title>
</cp:coreProperties>
</file>